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42FF-7F56-4EF0-813D-121B8C705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4731-00B3-4287-8F63-3303029D5C5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5BC7A-B45F-4DBC-AEAD-E074F61287C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E7929-BAED-46A6-B427-49F79C64C19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34440" y="274320"/>
            <a:ext cx="8364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0393D-6A2C-44AA-8D2A-4EFB2C74B23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870B4-BBE8-48C1-84B1-45B16C3A4AD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E1928-E565-4F9E-9AB2-9AF3CADA0F6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16F03-66DB-4783-8727-1BBCFE7A797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F168D-5675-43CF-8A63-1E8F93578CC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A8C55-208F-409C-B8AC-499E2889B91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6260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9076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3444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6260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99076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29A97-E435-46A6-B981-B750BD5AA17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BD3594-A93C-4120-88FD-2460013FD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2B8F-F765-406F-A502-54C60A7F3C8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D7EC80-639E-4AB9-A3BB-22683979208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FFE144-3574-46C2-94A9-713443DA76B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BA5080-74F2-4FAC-9560-579E30CD7BC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C82CEC-6904-4971-B4DC-53CE19F57CF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34440" y="274320"/>
            <a:ext cx="8364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76872-A8C8-46E2-892E-11853A0A16A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CFB84-4E04-40C1-A96F-C1E4592EFCD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39B747-1792-4E22-AFB5-F1C361AE4A5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2E0784-7F62-41AE-BF4C-D7C72B17482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42E9B1-845A-44A8-ADC9-D9E4A886821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2AFB5B-3A1F-4A06-A6EB-0CA056691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260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076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444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260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076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D5B8-CA43-4860-83FB-2405EFA96A2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16260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9076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33444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16260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99076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0B9CC-AE8E-46F4-81EA-CB230179DE9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1720BF-623B-4FA7-9961-5B69D78B018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92289-D44D-42C9-AF90-57F6FCC7A67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821824-A3B0-477E-8328-1BC317B5387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7C48C0-E91D-4578-BD39-53A497B60E1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37E3B9-0CCD-4FD7-A0A2-4634BDD9FDF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34440" y="274320"/>
            <a:ext cx="8364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89FD0-FA25-473E-8DCD-CD2425488F5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11E5F7-9B0B-4E88-9592-0DD3FD3EEE5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E3BE7-201A-4E94-97D2-5AD0D6A045C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490E2-9BBC-4742-9EE0-203514636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0080A-8AD4-41EE-BF04-56EB0A1E498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FEA78-111E-4744-A842-F2F9B63BBB9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434BC-5762-4615-AD85-96A6A0FE87E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6260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9076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3444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6260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9076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2B7CD6-8525-42A0-A853-11A8EB7839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B9F4C-FE60-4AF7-90F8-C16EAFDE7B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5862-DA2A-498A-A1DC-01CEF5E62E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856AD-98CF-4BFD-BA47-A394D70763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8AFE6-307B-4A25-8109-9D467E2CDD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34440" y="274320"/>
            <a:ext cx="8364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EBD33-3A59-43C1-8B75-51AFB8CDA0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2CDF3-F286-4D5A-9594-00A4DA3AD7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CB29-56DE-4A0C-8E23-0CACBA01D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C42F-EC83-4713-BD5D-B8FE11338C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B101-9527-4088-BF6A-507BA59F3C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26AF0-0F57-43AA-AADC-333C0AE4E9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C766-A822-4453-949F-059CA9F9E0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260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9076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3444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260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9076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CB668-339B-4480-A088-F215A50E4A8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573-0C79-42BE-8529-4EE947B659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F2C-B52A-45C2-B36D-B36278F1A0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CCE-5518-4FF5-8DD3-B8E61B1273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3E3-5BFE-413A-BAF0-37EC805FA2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F57-15CD-448A-9EDF-337F1ADC36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D8D9-E701-4A53-A2E7-53705B27AF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34440" y="274320"/>
            <a:ext cx="8364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49E-82B9-4FF5-9255-9B631ACC06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024-1C4F-4088-B740-2B878D2D46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94C-BFAB-4346-BB39-531F07166A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8A9-8175-429D-836F-E0C3FCF246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AB8-B149-4A80-8383-B02DB490BE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32F-19DF-4CA1-8E9E-1963835A4B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6260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9076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3444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16260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9076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A45-B2C4-42D9-96C9-91B180FC19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39712-A557-4F19-B77A-9F9D5A7289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F479A-0626-4324-889B-DA2E9E30A3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81EA5-DB2B-4BC0-A408-C5E0AFE94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75EE-6706-44AC-B0DB-90162CE669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A143F-1E3F-496D-BFE3-717D35B38D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E4EAD-F158-4B23-8A04-012AB65F61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34440" y="274320"/>
            <a:ext cx="8364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045B9-38A3-4B59-9850-734E5D25DC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BEBF0-5831-4203-A0FA-B24A321F17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AD868-03FD-4501-B92C-949E2C86B7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757BB-10A1-428F-B3F1-3D4467C295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36C34-529C-47AD-B6A3-63130A460D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335BE-17E3-40F7-86D7-268278E823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16260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9076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3444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16260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9076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347C9-9457-41EB-BADA-42A99C843DB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F9E29-B85E-471F-898F-D8353C778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B587-9EC1-4424-99CB-A49CD8386EA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14807-64EE-485A-AC17-306355A9B85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79340-4A48-4A05-913A-711E363CB2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D251C-1A54-45C3-9E05-DA0C418701A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EA4CA-46E7-47A6-BB9D-6340613E9B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334440" y="274320"/>
            <a:ext cx="8364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068FB-E126-4773-B51D-305DB220285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28D08-EB20-4952-BEA2-69F42F6C2F2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E5997-082B-416E-B824-CF959D2A72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66A8D-1FA7-46CE-B733-A5362AEF401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EAC3E-242C-4228-92F6-CF3BFCF62EE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4284F-3CD7-4F2F-A3DC-48DBD30E2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4440" y="274320"/>
            <a:ext cx="8364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0DED-477E-4149-8E48-819B303B18E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16260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9076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33444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16260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9076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1C5D1-A56D-49CA-9AA4-B228E88DBDC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ECD1-C654-4C06-92FD-FE050403422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CCC3-174C-405F-AC16-4630D4A84D2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F36E-7667-4E73-9977-F85E46FA45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9FF2-1B5D-4C65-9893-EAF6BFA2B3A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6998-8305-41DD-9729-81059E18633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34440" y="274320"/>
            <a:ext cx="8364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563D-A243-4632-A5B2-8BE1D81821B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558F-D3A9-4667-B04D-06E1E99DF37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4FD6-84AF-4D54-8EF3-85A3179295D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9702-44B9-495D-8B0F-19639A786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E6EF-088B-412D-A0ED-CD9B104CF6A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CAF5-F683-4D6E-A619-B6CCA7B3FA6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63F9-251F-48C1-97D1-83D55204360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16260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9076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3444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16260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9076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91A3-B6B5-4C51-AED9-5892AD8A9B7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845539-DA87-454B-A52C-0818ABFE60C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1876A7-CF5D-4565-BF65-01370472483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6F62E8-EB02-4350-AAB5-B53B39A60A3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583A58-CE3E-40A7-B67A-6A71A560AC6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73419C-247C-4E68-BD1D-413FD664BBB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34440" y="274320"/>
            <a:ext cx="8364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543544-7259-4828-8879-076F13E1F48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F18465-C770-4B9D-B8C5-1283829E4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A4E8-F157-4F45-8E69-64494C2C352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9EACB9-6099-421F-BC8E-81EF6B588D7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151B0E-ABB3-4272-9C56-2F4FBE38378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3E0189-724D-4722-92D3-6C6FCC6D3A1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BFCBC0-E2C9-4F37-A700-41DF36C5E21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260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9076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3444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260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9076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0D1D06-4FFE-4389-AE9C-219A993E6FB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7340E-F735-4CFC-BEDB-DD6DE3DCE83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35ABA-1F9D-4689-B10E-5F029473BF3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E2AEC-08F2-490D-9218-70683F19CB8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1786F-D827-4203-9981-07ED3A8D3FF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65AEF-2BFB-415D-946C-03ED6F6F4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4CF4-319F-4245-A94B-23B66EA923E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334440" y="274320"/>
            <a:ext cx="8364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FC98B-206B-460C-983C-4251749191C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EF85E-801D-402C-9A91-A464E25570D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41AF2-09C1-41AA-89FC-7F660351DC0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04F5A-C95A-4476-B047-4A23A9F8362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4440" y="3767400"/>
            <a:ext cx="836460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39D63-7E1D-4816-8A55-1068860488D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0600" y="159984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3444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20600" y="3767400"/>
            <a:ext cx="408168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DF18C-8865-4A7F-B222-174DD1A79D8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16260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990760" y="159984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3444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16260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990760" y="3767400"/>
            <a:ext cx="269316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1D4D5-C58F-4767-8ED4-2E18FE7AF91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3805-A009-48D1-B817-6B355A801FD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1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34CC4-EC8F-440A-A8ED-836675D7830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62478-34AF-4BE7-A71C-A2CDBDF2B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2ad00"/>
                </a:solidFill>
                <a:latin typeface="Arial Bold"/>
              </a:rPr>
              <a:t>Click to edit the title text format</a:t>
            </a: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72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1" marL="11415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2" marL="16016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3" marL="20559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4" marL="25160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5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6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25080" y="61462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B9A9-A12A-4C53-881B-082FA777ABFA}" type="slidenum">
              <a:rPr b="0" lang="en-US" sz="1200" spc="-1" strike="noStrike">
                <a:solidFill>
                  <a:srgbClr val="003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HCDA-Logo-RGB.jpg"/>
          <p:cNvPicPr/>
          <p:nvPr/>
        </p:nvPicPr>
        <p:blipFill>
          <a:blip r:embed="rId2"/>
          <a:stretch/>
        </p:blipFill>
        <p:spPr>
          <a:xfrm>
            <a:off x="6675480" y="6021360"/>
            <a:ext cx="2052720" cy="5065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2ad00"/>
                </a:solidFill>
                <a:latin typeface="Arial Bold"/>
              </a:rPr>
              <a:t>Click to edit the title text format</a:t>
            </a: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72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1" marL="11415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2" marL="16016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3" marL="20559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4" marL="25160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5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6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10"/>
          </p:nvPr>
        </p:nvSpPr>
        <p:spPr>
          <a:xfrm>
            <a:off x="325080" y="61462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FA62-9D2F-4680-ABB0-F49814E19902}" type="slidenum">
              <a:rPr b="0" lang="en-US" sz="1200" spc="-1" strike="noStrike">
                <a:solidFill>
                  <a:srgbClr val="003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IHCDA-Logo-RGB.jpg"/>
          <p:cNvPicPr/>
          <p:nvPr/>
        </p:nvPicPr>
        <p:blipFill>
          <a:blip r:embed="rId2"/>
          <a:stretch/>
        </p:blipFill>
        <p:spPr>
          <a:xfrm>
            <a:off x="6675480" y="6021360"/>
            <a:ext cx="2052720" cy="5065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2ad00"/>
                </a:solidFill>
                <a:latin typeface="Arial Bold"/>
              </a:rPr>
              <a:t>Click to edit the title text format</a:t>
            </a: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72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1" marL="11415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2" marL="16016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3" marL="20559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4" marL="25160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5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6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11"/>
          </p:nvPr>
        </p:nvSpPr>
        <p:spPr>
          <a:xfrm>
            <a:off x="325080" y="61462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FE3F-D6E4-40FE-ABFC-C6A2F8385A6E}" type="slidenum">
              <a:rPr b="0" lang="en-US" sz="1200" spc="-1" strike="noStrike">
                <a:solidFill>
                  <a:srgbClr val="003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2ad00"/>
                </a:solidFill>
                <a:latin typeface="Arial Bold"/>
              </a:rPr>
              <a:t>Click to edit the title text format</a:t>
            </a: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72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1" marL="11415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2" marL="16016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3" marL="20559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4" marL="25160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5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6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325080" y="6261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E51F-ABD6-45A7-8316-C0088B1EFD4E}" type="slidenum">
              <a:rPr b="0" lang="en-US" sz="1200" spc="-1" strike="noStrike">
                <a:solidFill>
                  <a:srgbClr val="003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IHCDA-Logo-RGB.jpg"/>
          <p:cNvPicPr/>
          <p:nvPr/>
        </p:nvPicPr>
        <p:blipFill>
          <a:blip r:embed="rId2"/>
          <a:stretch/>
        </p:blipFill>
        <p:spPr>
          <a:xfrm>
            <a:off x="6675480" y="6021360"/>
            <a:ext cx="2052720" cy="50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2ad00"/>
                </a:solidFill>
                <a:latin typeface="Arial Bold"/>
              </a:rPr>
              <a:t>Click to edit the title text format</a:t>
            </a: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72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1" marL="11415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2" marL="16016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3" marL="20559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4" marL="25160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5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6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325080" y="61462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D2F8-4AD1-4EA8-9D87-F0AC25B86E22}" type="slidenum">
              <a:rPr b="0" lang="en-US" sz="1200" spc="-1" strike="noStrike">
                <a:solidFill>
                  <a:srgbClr val="003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IHCDA-Logo-RGB.jpg"/>
          <p:cNvPicPr/>
          <p:nvPr/>
        </p:nvPicPr>
        <p:blipFill>
          <a:blip r:embed="rId2"/>
          <a:stretch/>
        </p:blipFill>
        <p:spPr>
          <a:xfrm>
            <a:off x="6675480" y="6021360"/>
            <a:ext cx="2052720" cy="506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2ad00"/>
                </a:solidFill>
                <a:latin typeface="Arial Bold"/>
              </a:rPr>
              <a:t>Click to edit the title text format</a:t>
            </a: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72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1" marL="11415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2" marL="16016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3" marL="20559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4" marL="25160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5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6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4"/>
          </p:nvPr>
        </p:nvSpPr>
        <p:spPr>
          <a:xfrm>
            <a:off x="325080" y="61462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D7C3-FD3B-4310-9065-09C2AA0FB604}" type="slidenum">
              <a:rPr b="0" lang="en-US" sz="1200" spc="-1" strike="noStrike">
                <a:solidFill>
                  <a:srgbClr val="003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IHCDA-Logo-RGB.jpg"/>
          <p:cNvPicPr/>
          <p:nvPr/>
        </p:nvPicPr>
        <p:blipFill>
          <a:blip r:embed="rId2"/>
          <a:stretch/>
        </p:blipFill>
        <p:spPr>
          <a:xfrm>
            <a:off x="6675480" y="6021360"/>
            <a:ext cx="2052720" cy="5065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2ad00"/>
                </a:solidFill>
                <a:latin typeface="Arial Bold"/>
              </a:rPr>
              <a:t>Click to edit the title text format</a:t>
            </a: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72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1" marL="11415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2" marL="16016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3" marL="20559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4" marL="25160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5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6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5"/>
          </p:nvPr>
        </p:nvSpPr>
        <p:spPr>
          <a:xfrm>
            <a:off x="325080" y="61462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DCA6-0577-4E4E-BC65-EF2A0C46ABA3}" type="slidenum">
              <a:rPr b="0" lang="en-US" sz="1200" spc="-1" strike="noStrike">
                <a:solidFill>
                  <a:srgbClr val="003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IHCDA-Logo-RGB.jpg"/>
          <p:cNvPicPr/>
          <p:nvPr/>
        </p:nvPicPr>
        <p:blipFill>
          <a:blip r:embed="rId2"/>
          <a:stretch/>
        </p:blipFill>
        <p:spPr>
          <a:xfrm>
            <a:off x="6675480" y="6021360"/>
            <a:ext cx="2052720" cy="5065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2ad00"/>
                </a:solidFill>
                <a:latin typeface="Arial Bold"/>
              </a:rPr>
              <a:t>Click to edit the title text format</a:t>
            </a: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72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1" marL="11415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2" marL="16016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3" marL="20559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4" marL="25160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5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6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6"/>
          </p:nvPr>
        </p:nvSpPr>
        <p:spPr>
          <a:xfrm>
            <a:off x="325080" y="61462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C4FF-E12A-4ECC-ADF2-8BB13B3B1454}" type="slidenum">
              <a:rPr b="0" lang="en-US" sz="1200" spc="-1" strike="noStrike">
                <a:solidFill>
                  <a:srgbClr val="003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HCDA-Logo-RGB.jpg"/>
          <p:cNvPicPr/>
          <p:nvPr/>
        </p:nvPicPr>
        <p:blipFill>
          <a:blip r:embed="rId2"/>
          <a:stretch/>
        </p:blipFill>
        <p:spPr>
          <a:xfrm>
            <a:off x="6675480" y="6021360"/>
            <a:ext cx="2052720" cy="506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2ad00"/>
                </a:solidFill>
                <a:latin typeface="Arial Bold"/>
              </a:rPr>
              <a:t>Click to edit the title text format</a:t>
            </a: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72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1" marL="11415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2" marL="16016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3" marL="20559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4" marL="25160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5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6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7"/>
          </p:nvPr>
        </p:nvSpPr>
        <p:spPr>
          <a:xfrm>
            <a:off x="325080" y="61462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794F-0681-470C-A956-A67423F29B20}" type="slidenum">
              <a:rPr b="0" lang="en-US" sz="1200" spc="-1" strike="noStrike">
                <a:solidFill>
                  <a:srgbClr val="003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IHCDA-Logo-RGB.jpg"/>
          <p:cNvPicPr/>
          <p:nvPr/>
        </p:nvPicPr>
        <p:blipFill>
          <a:blip r:embed="rId2"/>
          <a:stretch/>
        </p:blipFill>
        <p:spPr>
          <a:xfrm>
            <a:off x="6675480" y="6021360"/>
            <a:ext cx="2052720" cy="506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2ad00"/>
                </a:solidFill>
                <a:latin typeface="Arial Bold"/>
              </a:rPr>
              <a:t>Click to edit the title text format</a:t>
            </a: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72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1" marL="11415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2" marL="16016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3" marL="20559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4" marL="25160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5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6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8"/>
          </p:nvPr>
        </p:nvSpPr>
        <p:spPr>
          <a:xfrm>
            <a:off x="325080" y="61462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C1D5-7F1C-467B-9F22-B3E018FCACCF}" type="slidenum">
              <a:rPr b="0" lang="en-US" sz="1200" spc="-1" strike="noStrike">
                <a:solidFill>
                  <a:srgbClr val="003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IHCDA-Logo-RGB.jpg"/>
          <p:cNvPicPr/>
          <p:nvPr/>
        </p:nvPicPr>
        <p:blipFill>
          <a:blip r:embed="rId2"/>
          <a:stretch/>
        </p:blipFill>
        <p:spPr>
          <a:xfrm>
            <a:off x="6675480" y="6021360"/>
            <a:ext cx="2052720" cy="5065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2ad00"/>
                </a:solidFill>
                <a:latin typeface="Arial Bold"/>
              </a:rPr>
              <a:t>Click to edit the title text format</a:t>
            </a: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34440" y="1599840"/>
            <a:ext cx="8364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72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1" marL="11415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2" marL="16016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3" marL="2055960" indent="-227160">
              <a:buClr>
                <a:srgbClr val="003359"/>
              </a:buClr>
              <a:buFont typeface="Frutiger LT Std 45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4" marL="2516040" indent="-22536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5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  <a:p>
            <a:pPr lvl="6" marL="251604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5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9"/>
          </p:nvPr>
        </p:nvSpPr>
        <p:spPr>
          <a:xfrm>
            <a:off x="325080" y="61462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0374-42EF-42A1-9DCF-343D68A7E8E5}" type="slidenum">
              <a:rPr b="0" lang="en-US" sz="1200" spc="-1" strike="noStrike">
                <a:solidFill>
                  <a:srgbClr val="003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in.gov/ihcda/4458.htm" TargetMode="External"/><Relationship Id="rId2" Type="http://schemas.openxmlformats.org/officeDocument/2006/relationships/hyperlink" Target="https://www.hudexchange.info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in.gov/ihcda/4459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34800" y="739800"/>
            <a:ext cx="7772400" cy="45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Bold"/>
              </a:rPr>
              <a:t>COVID-19 Office Hours</a:t>
            </a:r>
            <a:br>
              <a:rPr sz="3000"/>
            </a:b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2ad00"/>
                </a:solidFill>
                <a:latin typeface="Arial Bold"/>
              </a:rPr>
              <a:t>COVID-19 RESPONSE RESOURCES</a:t>
            </a: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34440" y="1165320"/>
            <a:ext cx="8364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59"/>
                </a:solidFill>
                <a:latin typeface="Arial"/>
              </a:rPr>
              <a:t>State:</a:t>
            </a:r>
            <a:endParaRPr b="0" lang="en-US" sz="40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59"/>
                </a:solidFill>
                <a:latin typeface="Arial"/>
              </a:rPr>
              <a:t>Indiana Balance of State Website-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www.in.gov/ihcda/4458.htm</a:t>
            </a:r>
            <a:endParaRPr b="0" lang="en-US" sz="40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59"/>
                </a:solidFill>
                <a:latin typeface="Arial"/>
              </a:rPr>
              <a:t>Federal:</a:t>
            </a:r>
            <a:endParaRPr b="0" lang="en-US" sz="40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59"/>
                </a:solidFill>
                <a:latin typeface="Arial"/>
              </a:rPr>
              <a:t>HUD Exchange federal Guidance-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www.hudexchange.info/</a:t>
            </a:r>
            <a:endParaRPr b="0" lang="en-US" sz="4000" spc="-1" strike="noStrike">
              <a:solidFill>
                <a:srgbClr val="0033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34440" y="997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2ad00"/>
                </a:solidFill>
                <a:latin typeface="Arial Bold"/>
              </a:rPr>
              <a:t>IHCDA UPDATES FROM JAKE</a:t>
            </a: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34440" y="960480"/>
            <a:ext cx="8364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-IHCDA has a web page dedicated to </a:t>
            </a:r>
            <a:r>
              <a:rPr b="1" lang="en-US" sz="1800" spc="-1" strike="noStrike">
                <a:solidFill>
                  <a:srgbClr val="003359"/>
                </a:solidFill>
                <a:latin typeface="Arial"/>
              </a:rPr>
              <a:t>COVID19 Actions</a:t>
            </a: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www.in.gov/ihcda/4459.htm</a:t>
            </a: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3359"/>
                </a:solidFill>
                <a:latin typeface="Arial"/>
              </a:rPr>
              <a:t>IHCDA’s Resource Guide</a:t>
            </a: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 has been released: </a:t>
            </a:r>
            <a:r>
              <a:rPr b="0" lang="en-US" sz="1800" spc="-1" strike="noStrike" u="sng">
                <a:solidFill>
                  <a:srgbClr val="003359"/>
                </a:solidFill>
                <a:uFillTx/>
                <a:latin typeface="Arial"/>
              </a:rPr>
              <a:t>https://www.in.gov/ihcda/4464.htm</a:t>
            </a: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  <a:p>
            <a:pPr lvl="1" marL="666360" indent="-218520">
              <a:buClr>
                <a:srgbClr val="0033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In partnership with Indiana Department of Financial Institutions, Indiana Apartment Association, Indiana Bankers Association, Indiana Mortgage Bankers Association, and the Indiana Credit Union League</a:t>
            </a: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-We amended our Hardest Hit Fund Program to provide up to 6 months of mortgage assistance.  Please direct everyone to </a:t>
            </a:r>
            <a:r>
              <a:rPr b="1" lang="en-US" sz="1800" spc="-1" strike="noStrike">
                <a:solidFill>
                  <a:srgbClr val="003359"/>
                </a:solidFill>
                <a:latin typeface="Arial"/>
              </a:rPr>
              <a:t>877GETHOPE.ORG</a:t>
            </a: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 or call 877- GET-HOPE.  </a:t>
            </a: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59"/>
                </a:solidFill>
                <a:latin typeface="Arial"/>
              </a:rPr>
              <a:t>-Share the positive work</a:t>
            </a: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 you are doing in your communities! Please share a picture or social media post with us.  We want to help share your work.  You can send that information to our Marketing and Communications team at communications@ihcda.in.gov or @ihcda on social media </a:t>
            </a: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252000" y="174600"/>
            <a:ext cx="8364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59"/>
                </a:solidFill>
                <a:latin typeface="Arial"/>
              </a:rPr>
              <a:t>Weekly Sub-Group Meetings: </a:t>
            </a: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59"/>
                </a:solidFill>
                <a:latin typeface="Arial"/>
              </a:rPr>
              <a:t>CE Coordinators and Regional Chairs Weekly Meeting</a:t>
            </a: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 starting Mar 26, 2020 12:15 PM EDT at:</a:t>
            </a:r>
            <a:br>
              <a:rPr sz="1800"/>
            </a:br>
            <a:r>
              <a:rPr b="0" lang="en-US" sz="1800" spc="-1" strike="noStrike" u="sng">
                <a:solidFill>
                  <a:srgbClr val="003359"/>
                </a:solidFill>
                <a:uFillTx/>
                <a:latin typeface="Arial"/>
              </a:rPr>
              <a:t>https://attendee.gotowebinar.com/register/5976398057594530317</a:t>
            </a: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After registering, you will receive a confirmation email containing information about joining the webinar.</a:t>
            </a: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59"/>
                </a:solidFill>
                <a:latin typeface="Arial"/>
              </a:rPr>
              <a:t>CoC Recipients Weekly Meeting</a:t>
            </a: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 starting Mar 26, 2020 1:30 PM EDT at: </a:t>
            </a:r>
            <a:r>
              <a:rPr b="0" lang="en-US" sz="1800" spc="-1" strike="noStrike" u="sng">
                <a:solidFill>
                  <a:srgbClr val="003359"/>
                </a:solidFill>
                <a:uFillTx/>
                <a:latin typeface="Arial"/>
              </a:rPr>
              <a:t>https://attendee.gotowebinar.com/rt/3667377459777031437</a:t>
            </a: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After registering, you will receive a confirmation email containing information about joining the webinar.</a:t>
            </a: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59"/>
                </a:solidFill>
                <a:latin typeface="Arial"/>
              </a:rPr>
              <a:t>HOPWA, TANF, ESG Recipients Weekly Meeting</a:t>
            </a: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 starting Mar 26, 2020 3:30 PM EDT at: </a:t>
            </a:r>
            <a:r>
              <a:rPr b="0" lang="en-US" sz="1800" spc="-1" strike="noStrike" u="sng">
                <a:solidFill>
                  <a:srgbClr val="003359"/>
                </a:solidFill>
                <a:uFillTx/>
                <a:latin typeface="Arial"/>
              </a:rPr>
              <a:t>https://attendee.gotowebinar.com/rt/2993243791043288589</a:t>
            </a:r>
            <a:br>
              <a:rPr sz="1800"/>
            </a:b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After registering, you will receive a confirmation email containing information about joining the webinar.</a:t>
            </a: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59"/>
                </a:solidFill>
                <a:latin typeface="Arial"/>
              </a:rPr>
              <a:t>HMIS Weekly Meeting</a:t>
            </a: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 starting Mar 31, 2020 12:00 PM EDT at:</a:t>
            </a:r>
            <a:br>
              <a:rPr sz="1800"/>
            </a:br>
            <a:r>
              <a:rPr b="0" lang="en-US" sz="1800" spc="-1" strike="noStrike" u="sng">
                <a:solidFill>
                  <a:srgbClr val="003359"/>
                </a:solidFill>
                <a:uFillTx/>
                <a:latin typeface="Arial"/>
              </a:rPr>
              <a:t>https://attendee.gotowebinar.com/register/3946817240464878349</a:t>
            </a:r>
            <a:br>
              <a:rPr sz="1800"/>
            </a:br>
            <a:r>
              <a:rPr b="0" lang="en-US" sz="1800" spc="-1" strike="noStrike">
                <a:solidFill>
                  <a:srgbClr val="003359"/>
                </a:solidFill>
                <a:latin typeface="Arial"/>
              </a:rPr>
              <a:t>After registering, you will receive a confirmation email containing information about joining the webinar.</a:t>
            </a: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34440" y="27432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2ad00"/>
                </a:solidFill>
                <a:latin typeface="Arial Bold"/>
              </a:rPr>
              <a:t>OVERALL</a:t>
            </a:r>
            <a:endParaRPr b="1" lang="en-US" sz="3000" spc="-1" strike="noStrike">
              <a:solidFill>
                <a:srgbClr val="a2ad00"/>
              </a:solidFill>
              <a:latin typeface="Arial Bold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34440" y="1425600"/>
            <a:ext cx="8364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33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59"/>
                </a:solidFill>
                <a:latin typeface="Arial"/>
              </a:rPr>
              <a:t>Higher level questions/concerns</a:t>
            </a:r>
            <a:endParaRPr b="0" lang="en-US" sz="4000" spc="-1" strike="noStrike">
              <a:solidFill>
                <a:srgbClr val="003359"/>
              </a:solidFill>
              <a:latin typeface="Arial"/>
            </a:endParaRPr>
          </a:p>
          <a:p>
            <a:pPr marL="343080" indent="-343080">
              <a:buClr>
                <a:srgbClr val="0033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59"/>
                </a:solidFill>
                <a:latin typeface="Arial"/>
              </a:rPr>
              <a:t>Touch point with IHCDA staff</a:t>
            </a:r>
            <a:endParaRPr b="0" lang="en-US" sz="4000" spc="-1" strike="noStrike">
              <a:solidFill>
                <a:srgbClr val="003359"/>
              </a:solidFill>
              <a:latin typeface="Arial"/>
            </a:endParaRPr>
          </a:p>
          <a:p>
            <a:pPr marL="343080" indent="-343080">
              <a:buClr>
                <a:srgbClr val="0033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59"/>
                </a:solidFill>
                <a:latin typeface="Arial"/>
              </a:rPr>
              <a:t>Updates on local response and IHCDA/CoC BoS assistance</a:t>
            </a:r>
            <a:endParaRPr b="0" lang="en-US" sz="4000" spc="-1" strike="noStrike">
              <a:solidFill>
                <a:srgbClr val="0033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9:15:51Z</dcterms:created>
  <dc:creator>Windows User</dc:creator>
  <dc:description/>
  <dc:language>en-US</dc:language>
  <cp:lastModifiedBy>Peters, Grant</cp:lastModifiedBy>
  <dcterms:modified xsi:type="dcterms:W3CDTF">2020-04-14T15:54:52Z</dcterms:modified>
  <cp:revision>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CB289419731604E85B2D5F71E4C8FD1</vt:lpwstr>
  </property>
</Properties>
</file>